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66945" t="93452" r="0" b="5487"/>
          <a:stretch/>
        </p:blipFill>
        <p:spPr>
          <a:xfrm>
            <a:off x="0" y="6021360"/>
            <a:ext cx="9144000" cy="8636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68360" y="6237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激发创新思维  培育创新精神  强化创新意识  提高创新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rcRect l="66945" t="93452" r="0" b="5487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250920" y="836640"/>
            <a:ext cx="97128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3860640"/>
            <a:ext cx="813600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中宋"/>
              </a:rPr>
              <a:t> </a:t>
            </a:r>
            <a:endParaRPr b="1" lang="en-US" sz="1800" spc="-1" strike="noStrike">
              <a:ln w="0">
                <a:noFill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1125360"/>
            <a:ext cx="723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2600" dir="0" blurRad="0" rotWithShape="0">
                    <a:srgbClr val="000000">
                      <a:alpha val="78000"/>
                    </a:srgbClr>
                  </a:outerShdw>
                </a:effectLst>
                <a:latin typeface="华文新魏"/>
              </a:rPr>
              <a:t>2014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2600" dir="0" blurRad="0" rotWithShape="0">
                    <a:srgbClr val="000000">
                      <a:alpha val="78000"/>
                    </a:srgbClr>
                  </a:outerShdw>
                </a:effectLst>
                <a:latin typeface="华文新魏"/>
              </a:rPr>
              <a:t>年郑州大学第九届研究生学术论坛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2600" dir="0" blurRad="0" rotWithShape="0">
                  <a:srgbClr val="00000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2600" dir="0" blurRad="0" rotWithShape="0">
                    <a:srgbClr val="000000">
                      <a:alpha val="78000"/>
                    </a:srgbClr>
                  </a:outerShdw>
                </a:effectLst>
                <a:latin typeface="华文新魏"/>
              </a:rPr>
              <a:t>     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2600" dir="0" blurRad="0" rotWithShape="0">
                  <a:srgbClr val="00000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8000" y="2637000"/>
            <a:ext cx="5256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3300"/>
                </a:solidFill>
                <a:latin typeface="黑体"/>
              </a:rPr>
              <a:t>历史学院博士生分论坛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cc3300"/>
              </a:solidFill>
              <a:latin typeface="黑体"/>
              <a:ea typeface="黑体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4221000"/>
            <a:ext cx="597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黑体"/>
              </a:rPr>
              <a:t>主办单位：研究生院   党委研究生工作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黑体"/>
              </a:rPr>
              <a:t>承办单位：历史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黑体"/>
              </a:rPr>
              <a:t>协办单位：文学院 教育学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3860640"/>
            <a:ext cx="813600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中宋"/>
              </a:rPr>
              <a:t> </a:t>
            </a:r>
            <a:endParaRPr b="1" lang="en-US" sz="1800" spc="-1" strike="noStrike">
              <a:ln w="0">
                <a:noFill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32000" y="1125360"/>
            <a:ext cx="7812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2600" dir="0" blurRad="0" rotWithShape="0">
                    <a:srgbClr val="000000">
                      <a:alpha val="78000"/>
                    </a:srgbClr>
                  </a:outerShdw>
                </a:effectLst>
                <a:latin typeface="华文新魏"/>
              </a:rPr>
              <a:t>2014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2600" dir="0" blurRad="0" rotWithShape="0">
                    <a:srgbClr val="000000">
                      <a:alpha val="78000"/>
                    </a:srgbClr>
                  </a:outerShdw>
                </a:effectLst>
                <a:latin typeface="华文新魏"/>
              </a:rPr>
              <a:t>年郑州大学第九届研究生学术论坛      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2600" dir="0" blurRad="0" rotWithShape="0">
                  <a:srgbClr val="00000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2600" dir="0" blurRad="0" rotWithShape="0">
                    <a:srgbClr val="000000">
                      <a:alpha val="78000"/>
                    </a:srgbClr>
                  </a:outerShdw>
                </a:effectLst>
                <a:latin typeface="华文新魏"/>
              </a:rPr>
              <a:t> 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2600" dir="0" blurRad="0" rotWithShape="0">
                  <a:srgbClr val="00000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836720" y="2637000"/>
            <a:ext cx="57625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>
                    <a:alpha val="96000"/>
                  </a:srgbClr>
                </a:solidFill>
                <a:latin typeface="黑体"/>
              </a:rPr>
              <a:t>历史学院研究生专题创新论坛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>
                  <a:alpha val="96000"/>
                </a:srgbClr>
              </a:solidFill>
              <a:latin typeface="黑体"/>
              <a:ea typeface="黑体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4221000"/>
            <a:ext cx="597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黑体"/>
              </a:rPr>
              <a:t>主办单位：研究生院   党委研究生工作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黑体"/>
              </a:rPr>
              <a:t>承办单位：历史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黑体"/>
              </a:rPr>
              <a:t>协办单位：文学院 教育学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14:12:30Z</dcterms:created>
  <dc:creator> </dc:creator>
  <dc:description/>
  <dc:language>en-US</dc:language>
  <cp:lastModifiedBy>User</cp:lastModifiedBy>
  <dcterms:modified xsi:type="dcterms:W3CDTF">2014-10-09T07:39:48Z</dcterms:modified>
  <cp:revision>708</cp:revision>
  <dc:subject/>
  <dc:title>                 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